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292F-143B-44F9-AE9A-28A8A96C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996-A43F-48E4-BF83-16CEB402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7B65-09DB-4B8D-AB28-E9976717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67ED-0D1C-4AB6-9EF3-9D21D4D3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5B0F-3695-4F4B-A0FE-A84C6EC8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B57-7F41-4647-B37B-2C5C37EB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1A36-B7A8-4703-96E1-E400E15E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306A-B9F4-412B-A7B4-78A8F605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0CF9-A0D4-4A04-B929-83234117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7EE-58F7-41C0-8ABD-EF969788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6098-3BB1-4CFA-981B-772A6444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CABA-EF80-4649-A2A1-9249C510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標楷體"/>
              </a:rPr>
              <a:t>Click to edit the outline text format</a:t>
            </a: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標楷體"/>
              </a:rPr>
              <a:t>Second Outline Level</a:t>
            </a: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標楷體"/>
              </a:rPr>
              <a:t>Third Outline Level</a:t>
            </a: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標楷體"/>
              </a:rPr>
              <a:t>Fourth Outline Level</a:t>
            </a: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標楷體"/>
              </a:rPr>
              <a:t>Fifth Outline Level</a:t>
            </a: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標楷體"/>
              </a:rPr>
              <a:t>Sixth Outline Level</a:t>
            </a: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標楷體"/>
              </a:rPr>
              <a:t>Seventh Outline Level</a:t>
            </a: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83C0-2198-44D2-A1C4-392942B4B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33520" y="6172200"/>
            <a:ext cx="8153280" cy="7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1066680" y="990720"/>
            <a:ext cx="7543800" cy="54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1" descr="水平置放"/>
          <p:cNvPicPr/>
          <p:nvPr/>
        </p:nvPicPr>
        <p:blipFill>
          <a:blip r:embed="rId2"/>
          <a:stretch/>
        </p:blipFill>
        <p:spPr>
          <a:xfrm>
            <a:off x="684360" y="6446880"/>
            <a:ext cx="6480000" cy="29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4760" y="980640"/>
            <a:ext cx="8210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Times New Roman"/>
              </a:rPr>
              <a:t>行政院研究發展考核委員會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Times New Roman"/>
              </a:rPr>
              <a:t>網頁無障礙設計說明會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6920" y="3933360"/>
            <a:ext cx="756144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70c0"/>
                </a:solidFill>
                <a:latin typeface="Times New Roman"/>
              </a:rPr>
              <a:t>主講人</a:t>
            </a: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70c0"/>
                </a:solidFill>
                <a:latin typeface="Times New Roman"/>
              </a:rPr>
              <a:t>財團法人愛盲基金會 </a:t>
            </a: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Times New Roman"/>
              </a:rPr>
              <a:t>何永裕</a:t>
            </a:r>
            <a:endParaRPr b="1" lang="en-US" sz="3200" spc="-1" strike="noStrike">
              <a:solidFill>
                <a:srgbClr val="0033cc"/>
              </a:solidFill>
              <a:latin typeface="標楷體"/>
            </a:endParaRPr>
          </a:p>
          <a:p>
            <a:pPr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9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33cc"/>
              </a:solidFill>
              <a:latin typeface="標楷體"/>
            </a:endParaRPr>
          </a:p>
        </p:txBody>
      </p:sp>
      <p:sp>
        <p:nvSpPr>
          <p:cNvPr id="46" name="文字方塊 5"/>
          <p:cNvSpPr/>
          <p:nvPr/>
        </p:nvSpPr>
        <p:spPr>
          <a:xfrm>
            <a:off x="1619280" y="299880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身障人士談無障礙網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投影片編號版面配置區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6CE2-305F-4DAB-9949-50A8A6A1B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33cc"/>
                </a:solidFill>
                <a:latin typeface="Times New Roman"/>
              </a:rPr>
              <a:t>身障人士談無障礙網頁</a:t>
            </a:r>
            <a:endParaRPr b="1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3000" y="1643040"/>
            <a:ext cx="6786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標楷體"/>
              </a:rPr>
              <a:t>淺談無障礙網頁之精神</a:t>
            </a: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標楷體"/>
              </a:rPr>
              <a:t>盲用電腦輔具認識</a:t>
            </a: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標楷體"/>
              </a:rPr>
              <a:t>3.</a:t>
            </a:r>
            <a:r>
              <a:rPr b="1" lang="zh-TW" sz="2800" spc="-1" strike="noStrike">
                <a:solidFill>
                  <a:srgbClr val="0033cc"/>
                </a:solidFill>
                <a:latin typeface="標楷體"/>
              </a:rPr>
              <a:t>「有障礙網站」跟「無障礙網站」對於身心障礙者取得資訊之差異性</a:t>
            </a: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pic>
        <p:nvPicPr>
          <p:cNvPr id="50" name="圖片 5" descr="gif-8.gif"/>
          <p:cNvPicPr/>
          <p:nvPr/>
        </p:nvPicPr>
        <p:blipFill>
          <a:blip r:embed="rId1"/>
          <a:stretch/>
        </p:blipFill>
        <p:spPr>
          <a:xfrm>
            <a:off x="8072280" y="5929200"/>
            <a:ext cx="438480" cy="533520"/>
          </a:xfrm>
          <a:prstGeom prst="rect">
            <a:avLst/>
          </a:prstGeom>
          <a:ln w="0">
            <a:noFill/>
          </a:ln>
        </p:spPr>
      </p:pic>
      <p:pic>
        <p:nvPicPr>
          <p:cNvPr id="51" name="圖片 6" descr="gif-8.gif"/>
          <p:cNvPicPr/>
          <p:nvPr/>
        </p:nvPicPr>
        <p:blipFill>
          <a:blip r:embed="rId2"/>
          <a:stretch/>
        </p:blipFill>
        <p:spPr>
          <a:xfrm>
            <a:off x="8501040" y="5715000"/>
            <a:ext cx="438120" cy="533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zh-TW" sz="4400" spc="-1" strike="noStrike">
                <a:solidFill>
                  <a:srgbClr val="0033cc"/>
                </a:solidFill>
                <a:latin typeface="Times New Roman"/>
              </a:rPr>
              <a:t>淺談無障礙網頁之精神</a:t>
            </a:r>
            <a:endParaRPr b="1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571760"/>
            <a:ext cx="685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標楷體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標楷體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標楷體"/>
              </a:rPr>
              <a:t>什麼是「通用設計」</a:t>
            </a: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標楷體"/>
              </a:rPr>
              <a:t>b. </a:t>
            </a:r>
            <a:r>
              <a:rPr b="1" lang="zh-TW" sz="2800" spc="-1" strike="noStrike">
                <a:solidFill>
                  <a:srgbClr val="0033cc"/>
                </a:solidFill>
                <a:latin typeface="標楷體"/>
              </a:rPr>
              <a:t>從通用設計概念談無障礙網頁</a:t>
            </a: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pic>
        <p:nvPicPr>
          <p:cNvPr id="54" name="圖片 5" descr="a30201.gif"/>
          <p:cNvPicPr/>
          <p:nvPr/>
        </p:nvPicPr>
        <p:blipFill>
          <a:blip r:embed="rId1"/>
          <a:stretch/>
        </p:blipFill>
        <p:spPr>
          <a:xfrm>
            <a:off x="3071880" y="5429160"/>
            <a:ext cx="542880" cy="438120"/>
          </a:xfrm>
          <a:prstGeom prst="rect">
            <a:avLst/>
          </a:prstGeom>
          <a:ln w="0">
            <a:noFill/>
          </a:ln>
        </p:spPr>
      </p:pic>
      <p:pic>
        <p:nvPicPr>
          <p:cNvPr id="55" name="圖片 7" descr="a30201.gif"/>
          <p:cNvPicPr/>
          <p:nvPr/>
        </p:nvPicPr>
        <p:blipFill>
          <a:blip r:embed="rId2"/>
          <a:stretch/>
        </p:blipFill>
        <p:spPr>
          <a:xfrm>
            <a:off x="3429000" y="5214960"/>
            <a:ext cx="542880" cy="43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1000" autoRev="1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1000" autoRev="1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2.</a:t>
            </a:r>
            <a:r>
              <a:rPr b="1" lang="zh-TW" sz="4800" spc="-1" strike="noStrike">
                <a:solidFill>
                  <a:srgbClr val="0033cc"/>
                </a:solidFill>
                <a:latin typeface="Times New Roman"/>
              </a:rPr>
              <a:t>盲用電腦輔具認識</a:t>
            </a:r>
            <a:endParaRPr b="1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43000" y="1571760"/>
            <a:ext cx="685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標楷體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標楷體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標楷體"/>
              </a:rPr>
              <a:t>什麼是盲用電腦</a:t>
            </a: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標楷體"/>
              </a:rPr>
              <a:t>b.</a:t>
            </a:r>
            <a:r>
              <a:rPr b="1" lang="zh-TW" sz="2800" spc="-1" strike="noStrike">
                <a:solidFill>
                  <a:srgbClr val="0033cc"/>
                </a:solidFill>
                <a:latin typeface="標楷體"/>
              </a:rPr>
              <a:t>台灣目前最常使用的螢幕閱讀軟體</a:t>
            </a: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pic>
        <p:nvPicPr>
          <p:cNvPr id="58" name="圖片 3" descr="a2.gif"/>
          <p:cNvPicPr/>
          <p:nvPr/>
        </p:nvPicPr>
        <p:blipFill>
          <a:blip r:embed="rId1"/>
          <a:stretch/>
        </p:blipFill>
        <p:spPr>
          <a:xfrm>
            <a:off x="1643040" y="600084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59" name="圖片 4" descr="a2.gif"/>
          <p:cNvPicPr/>
          <p:nvPr/>
        </p:nvPicPr>
        <p:blipFill>
          <a:blip r:embed="rId2"/>
          <a:stretch/>
        </p:blipFill>
        <p:spPr>
          <a:xfrm>
            <a:off x="2143080" y="5786280"/>
            <a:ext cx="495360" cy="4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「有障礙網站」跟「無障礙網站」 對於身心障礙者取得資訊之差異性</a:t>
            </a:r>
            <a:endParaRPr b="1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43000" y="1714320"/>
            <a:ext cx="678672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標楷體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標楷體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標楷體"/>
              </a:rPr>
              <a:t>網站導覽之重要性</a:t>
            </a: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標楷體"/>
              </a:rPr>
              <a:t>b</a:t>
            </a:r>
            <a:r>
              <a:rPr b="1" lang="en-US" sz="2800" spc="-1" strike="noStrike">
                <a:solidFill>
                  <a:srgbClr val="0033cc"/>
                </a:solidFill>
                <a:latin typeface="標楷體"/>
              </a:rPr>
              <a:t>.</a:t>
            </a:r>
            <a:r>
              <a:rPr b="1" lang="zh-TW" sz="2800" spc="-1" strike="noStrike">
                <a:solidFill>
                  <a:srgbClr val="0033cc"/>
                </a:solidFill>
                <a:latin typeface="標楷體"/>
              </a:rPr>
              <a:t>有效的替代文字說明</a:t>
            </a: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標楷體"/>
              </a:rPr>
              <a:t>c.</a:t>
            </a:r>
            <a:r>
              <a:rPr b="1" lang="zh-TW" sz="2800" spc="-1" strike="noStrike">
                <a:solidFill>
                  <a:srgbClr val="0033cc"/>
                </a:solidFill>
                <a:latin typeface="標楷體"/>
              </a:rPr>
              <a:t>圖形驗證解決方案</a:t>
            </a: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標楷體"/>
              </a:rPr>
              <a:t>d.</a:t>
            </a:r>
            <a:r>
              <a:rPr b="1" lang="zh-TW" sz="2800" spc="-1" strike="noStrike">
                <a:solidFill>
                  <a:srgbClr val="0033cc"/>
                </a:solidFill>
                <a:latin typeface="標楷體"/>
              </a:rPr>
              <a:t>快速鍵貼心的設計</a:t>
            </a:r>
            <a:endParaRPr b="1" lang="en-US" sz="2800" spc="-1" strike="noStrike">
              <a:solidFill>
                <a:srgbClr val="0033cc"/>
              </a:solidFill>
              <a:latin typeface="標楷體"/>
            </a:endParaRPr>
          </a:p>
        </p:txBody>
      </p:sp>
      <p:pic>
        <p:nvPicPr>
          <p:cNvPr id="62" name="圖片 3" descr="a40101.gif"/>
          <p:cNvPicPr/>
          <p:nvPr/>
        </p:nvPicPr>
        <p:blipFill>
          <a:blip r:embed="rId1"/>
          <a:stretch/>
        </p:blipFill>
        <p:spPr>
          <a:xfrm>
            <a:off x="7715160" y="2571840"/>
            <a:ext cx="285840" cy="476280"/>
          </a:xfrm>
          <a:prstGeom prst="rect">
            <a:avLst/>
          </a:prstGeom>
          <a:ln w="0">
            <a:noFill/>
          </a:ln>
        </p:spPr>
      </p:pic>
      <p:pic>
        <p:nvPicPr>
          <p:cNvPr id="63" name="圖片 4" descr="a40101.gif"/>
          <p:cNvPicPr/>
          <p:nvPr/>
        </p:nvPicPr>
        <p:blipFill>
          <a:blip r:embed="rId2"/>
          <a:stretch/>
        </p:blipFill>
        <p:spPr>
          <a:xfrm>
            <a:off x="7858080" y="3000240"/>
            <a:ext cx="285840" cy="476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46:04Z</dcterms:created>
  <dc:creator>root</dc:creator>
  <dc:description/>
  <dc:language>en-US</dc:language>
  <cp:lastModifiedBy>Robert</cp:lastModifiedBy>
  <dcterms:modified xsi:type="dcterms:W3CDTF">2010-06-14T06:19:13Z</dcterms:modified>
  <cp:revision>94</cp:revision>
  <dc:subject/>
  <dc:title>財團法人國家實驗研究院 高速網路與計算中心</dc:title>
</cp:coreProperties>
</file>